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11.wmf" ContentType="image/x-wmf"/>
  <Override PartName="/ppt/media/image10.wmf" ContentType="image/x-wmf"/>
  <Override PartName="/ppt/media/image2.png" ContentType="image/png"/>
  <Override PartName="/ppt/media/TADA.WAV" ContentType="audio/x-wav"/>
  <Override PartName="/ppt/media/whoosh.wav" ContentType="audio/x-wav"/>
  <Override PartName="/ppt/media/image13.wmf" ContentType="image/x-wmf"/>
  <Override PartName="/ppt/media/projctor.wav" ContentType="audio/x-wav"/>
  <Override PartName="/ppt/media/image8.wmf" ContentType="image/x-wmf"/>
  <Override PartName="/ppt/media/drumro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A1C9-A672-43FE-AB82-179DC228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13CA-1E20-47F8-B2D3-1FCAEB50E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B7CB-92E1-41C0-91F7-25861C39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2FFE-1601-43BE-B831-0283B8443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8F1-D19D-4726-9E00-8E6A73A34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6CD2-94E6-4584-B7F2-BFDACD45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8C0A-282B-456E-962C-185CDFCD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31AB-3806-49C4-8CB8-A61FA97EC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776-2B13-44B9-8200-20D5B0986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Files\MSOffice\Clipart\WebArt\bd15055_.gif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pic>
        <p:nvPicPr>
          <p:cNvPr id="3" name="Picture 5" descr="C:\Program Files\Common Files\Microsoft Shared\Clipart\themes1\lines\bd15073_.gif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Text Box 6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20EA-5343-4A02-9CF2-DA7D5602C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egasus"/>
              </a:rPr>
              <a:t>El Presente Progresivo</a:t>
            </a:r>
            <a:endParaRPr b="1" lang="en-US" sz="60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¿Qué estás haciendo </a:t>
            </a:r>
            <a:r>
              <a:rPr b="1" i="1" lang="en-US" sz="3200" spc="-1" strike="noStrike">
                <a:solidFill>
                  <a:srgbClr val="ff0000"/>
                </a:solidFill>
                <a:latin typeface="Pegasus"/>
              </a:rPr>
              <a:t>ahora mismo</a:t>
            </a: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22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23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26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29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22"/>
          <p:cNvSpPr/>
          <p:nvPr/>
        </p:nvSpPr>
        <p:spPr>
          <a:xfrm>
            <a:off x="3582000" y="17668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amos viv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953440" y="3505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n bai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4379400" y="5105520"/>
            <a:ext cx="22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s ju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36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39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42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426040" y="17668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094640" y="350532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446920" y="537840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49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52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55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420280" y="1766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oy hab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89600" y="35053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 com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439720" y="53784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is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10696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079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224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838080" y="1676520"/>
            <a:ext cx="7239240" cy="685800"/>
            <a:chOff x="838080" y="1676520"/>
            <a:chExt cx="7239240" cy="685800"/>
          </a:xfrm>
        </p:grpSpPr>
        <p:sp>
          <p:nvSpPr>
            <p:cNvPr id="55" name="Line 3"/>
            <p:cNvSpPr/>
            <p:nvPr/>
          </p:nvSpPr>
          <p:spPr>
            <a:xfrm>
              <a:off x="838080" y="2057400"/>
              <a:ext cx="7239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83808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572000" y="1676520"/>
              <a:ext cx="167652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57080" y="1905120"/>
            <a:ext cx="305280" cy="304560"/>
            <a:chOff x="5257080" y="1905120"/>
            <a:chExt cx="305280" cy="304560"/>
          </a:xfrm>
        </p:grpSpPr>
        <p:sp>
          <p:nvSpPr>
            <p:cNvPr id="59" name="Line 12"/>
            <p:cNvSpPr/>
            <p:nvPr/>
          </p:nvSpPr>
          <p:spPr>
            <a:xfrm flipH="1">
              <a:off x="525744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525708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6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rogres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cribes an action that is in proces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are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913480" y="5635800"/>
            <a:ext cx="333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¡ahora mi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¿Cómo lo </a:t>
            </a:r>
            <a:r>
              <a:rPr b="1" i="1" lang="en-US" sz="4400" spc="-1" strike="noStrike">
                <a:solidFill>
                  <a:srgbClr val="000000"/>
                </a:solidFill>
                <a:latin typeface="Pegasus"/>
              </a:rPr>
              <a:t>formamos</a:t>
            </a: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10080" y="44197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r/-i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19640" y="1362240"/>
            <a:ext cx="58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verb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 tense forms o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artici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i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gerund / geru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298160" y="4495680"/>
            <a:ext cx="3524400" cy="1191240"/>
            <a:chOff x="1298160" y="4495680"/>
            <a:chExt cx="3524400" cy="1191240"/>
          </a:xfrm>
        </p:grpSpPr>
        <p:sp>
          <p:nvSpPr>
            <p:cNvPr id="67" name="Text Box 13"/>
            <p:cNvSpPr/>
            <p:nvPr/>
          </p:nvSpPr>
          <p:spPr>
            <a:xfrm>
              <a:off x="1298160" y="4495680"/>
              <a:ext cx="21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o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4323240" y="47242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Participio presente = </a:t>
            </a:r>
            <a:r>
              <a:rPr b="1" i="1" lang="en-US" sz="4400" spc="-1" strike="noStrike">
                <a:solidFill>
                  <a:srgbClr val="ff0000"/>
                </a:solidFill>
                <a:latin typeface="Pegasus"/>
              </a:rPr>
              <a:t>-ing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70" name="Group 32"/>
          <p:cNvGrpSpPr/>
          <p:nvPr/>
        </p:nvGrpSpPr>
        <p:grpSpPr>
          <a:xfrm>
            <a:off x="1523160" y="1260360"/>
            <a:ext cx="6041880" cy="4988160"/>
            <a:chOff x="1523160" y="1260360"/>
            <a:chExt cx="6041880" cy="4988160"/>
          </a:xfrm>
        </p:grpSpPr>
        <p:sp>
          <p:nvSpPr>
            <p:cNvPr id="71" name="Text Box 15"/>
            <p:cNvSpPr/>
            <p:nvPr/>
          </p:nvSpPr>
          <p:spPr>
            <a:xfrm>
              <a:off x="1523160" y="1260360"/>
              <a:ext cx="604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iv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ticip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1739880" y="1870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193080" y="1905120"/>
            <a:ext cx="12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54280" y="2479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165720" y="251460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1846440" y="31240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32680" y="315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653840" y="3774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10560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737360" y="4384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076440" y="4419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821240" y="499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158520" y="502920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158436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5883120" y="55627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En inglés o en español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9480" y="129528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can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am 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 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6668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is.  The progressive in Spanish is ONLY used to describe an action that is in process at the moment we are talking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ora m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00200" y="3778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we can use the expression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the near futur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493360" y="518148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oy trabaj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hora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69360" y="5867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y a traba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 ejemplo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370512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és y Alic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bur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y y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m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g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s car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57400" y="29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i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c:\Program Files\Microsoft Office\Clipart\corpbas\bd19693_.wmf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20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:\Program Files\Microsoft Office\Clipart\standard\stddir3\pe01709_.wmf"/>
          <p:cNvPicPr/>
          <p:nvPr/>
        </p:nvPicPr>
        <p:blipFill>
          <a:blip r:embed="rId2"/>
          <a:stretch/>
        </p:blipFill>
        <p:spPr>
          <a:xfrm>
            <a:off x="0" y="525780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ás ejemplos…: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00200" y="27432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y su beb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Vosotr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di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o en este 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amig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lam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teléf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ié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l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cl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14300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necessary to use the ver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iend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ain (action)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c:\Program Files\Microsoft Office\Clipart\standard\stddir4\pe02553_.wmf"/>
          <p:cNvPicPr/>
          <p:nvPr/>
        </p:nvPicPr>
        <p:blipFill>
          <a:blip r:embed="rId1"/>
          <a:stretch/>
        </p:blipFill>
        <p:spPr>
          <a:xfrm>
            <a:off x="7772400" y="52578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Program Files\Microsoft Office\Clipart\standard\stddir1\bd05558_.wmf"/>
          <p:cNvPicPr/>
          <p:nvPr/>
        </p:nvPicPr>
        <p:blipFill>
          <a:blip r:embed="rId2"/>
          <a:stretch/>
        </p:blipFill>
        <p:spPr>
          <a:xfrm>
            <a:off x="111240" y="5334120"/>
            <a:ext cx="1120680" cy="13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Verbos irregular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057400" y="2085840"/>
            <a:ext cx="2209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876920" y="2085840"/>
            <a:ext cx="2438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m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c:\Program Files\Microsoft Office\Clipart\standard\stddir2\bs02010_.wmf"/>
          <p:cNvPicPr/>
          <p:nvPr/>
        </p:nvPicPr>
        <p:blipFill>
          <a:blip r:embed="rId1"/>
          <a:stretch/>
        </p:blipFill>
        <p:spPr>
          <a:xfrm>
            <a:off x="228600" y="1219320"/>
            <a:ext cx="1365120" cy="15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Program Files\Microsoft Office\Clipart\corpbas\j0079190.wmf"/>
          <p:cNvPicPr/>
          <p:nvPr/>
        </p:nvPicPr>
        <p:blipFill>
          <a:blip r:embed="rId2"/>
          <a:stretch/>
        </p:blipFill>
        <p:spPr>
          <a:xfrm>
            <a:off x="7772400" y="1143000"/>
            <a:ext cx="11523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10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13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16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5504040" y="1766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i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958120" y="350532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389120" y="510552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Windows User</cp:lastModifiedBy>
  <dcterms:modified xsi:type="dcterms:W3CDTF">2014-01-30T16:37:01Z</dcterms:modified>
  <cp:revision>96</cp:revision>
  <dc:subject>Español 101</dc:subject>
  <dc:title>Presente Progresivo</dc:title>
</cp:coreProperties>
</file>